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6.jpeg" ContentType="image/jpeg"/>
  <Override PartName="/ppt/media/image21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9.jpeg" ContentType="image/jpeg"/>
  <Override PartName="/ppt/media/image23.png" ContentType="image/png"/>
  <Override PartName="/ppt/media/image13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24.jpeg" ContentType="image/jpeg"/>
  <Override PartName="/ppt/media/image20.jpeg" ContentType="image/jpeg"/>
  <Override PartName="/ppt/media/image12.png" ContentType="image/pn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3A01-4E8C-4C22-AB78-45C84A428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81D5-AE39-41F0-8C11-BCA19BA14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3B8E-C52D-466A-906E-DBE682AC2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B031-9250-45A3-A4EB-A2906CDC0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AC54-DD10-4D85-8744-293786CD1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59DE-D0B0-42F3-998D-368AD1ABA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469A-ED3D-4A83-8BBD-12146D7E2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D643-78C4-432C-B2E5-1FC133E42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1EF5-A160-411F-9CC9-2D97DE42D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4E2F-56FD-44AB-8849-A3EAE816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D607-47DA-4A24-A5E8-FD6F51E90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DB22-E6D6-4F09-9A4F-39C991C4B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F7796-9EA1-4E2E-9646-0C6D7284B969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saudinf.com/jpghi/0002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a/imgres?imgurl=http://en.wikipedia.org/upload/c/c2/CWswastika.png&amp;imgrefurl=http://en.wikipedia.org/wiki/Nazi&amp;h=160&amp;w=160&amp;sz=2&amp;tbnid=exxT0Vwdk70J:&amp;tbnh=92&amp;tbnw=92&amp;start=5&amp;prev=/images%3Fq%3Dswastika%26hl%3Den%26lr%3D%26ie%3DUTF-8%26sa%3D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brentwood-council.gov.uk/images/img_130.jpg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members.aol.com/davlowe/mussolini" TargetMode="External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267600" cy="42721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029200" y="3290760"/>
            <a:ext cx="411480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OLLED PARTICIP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ople who are allowed to participate and contribute to something are more likely to support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ctatorships often stage rallies and elections into displays of support for the govern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ion of youth groups force the youth to take an active role in their count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5800" y="2533680"/>
            <a:ext cx="380988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CH TECHNIQUE IS BEING US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en gave no reason for taking the journalist away. They didn’t say who they were, They just took him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274320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I was a child, I knew I supported the government. Everything I have read and studied since has confirmed the correctness of this position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37339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u never knew if you were being watched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41911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we didn’t let in so many immigrants in our country we wouldn’t have so much crime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48769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government held their meetings in the evening in the center of a huge square. The area was filled with flags and men in uniform. Thousands of people would come out to witness the drama and cheer as they played the national anthem.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DICTATOR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What good fortune for those in power that people do not think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- Adolf Hit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Ideas are far more powerful than guns. We don't allow our enemies to have guns, why should we allow them to have ideas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Joseph Stalin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3124440" cy="20764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838080" y="4038480"/>
            <a:ext cx="3124440" cy="20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SOLUTE MON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where one individual has absolute control given to him by G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eader has the ability to pass power on to his 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usually a feature of a traditional soci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would be Saudi Arab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2209680"/>
            <a:ext cx="3809880" cy="2497320"/>
          </a:xfrm>
          <a:prstGeom prst="rect">
            <a:avLst/>
          </a:prstGeom>
          <a:ln w="0">
            <a:noFill/>
          </a:ln>
        </p:spPr>
      </p:pic>
      <p:grpSp>
        <p:nvGrpSpPr>
          <p:cNvPr id="86" name=""/>
          <p:cNvGrpSpPr/>
          <p:nvPr/>
        </p:nvGrpSpPr>
        <p:grpSpPr>
          <a:xfrm>
            <a:off x="838080" y="5029200"/>
            <a:ext cx="3581280" cy="577800"/>
            <a:chOff x="838080" y="5029200"/>
            <a:chExt cx="3581280" cy="577800"/>
          </a:xfrm>
        </p:grpSpPr>
        <p:sp>
          <p:nvSpPr>
            <p:cNvPr id="87" name=""/>
            <p:cNvSpPr/>
            <p:nvPr/>
          </p:nvSpPr>
          <p:spPr>
            <a:xfrm>
              <a:off x="838080" y="5029200"/>
              <a:ext cx="3581280" cy="57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838080" y="5029200"/>
              <a:ext cx="3580920" cy="577800"/>
              <a:chOff x="838080" y="5029200"/>
              <a:chExt cx="3580920" cy="577800"/>
            </a:xfrm>
          </p:grpSpPr>
          <p:sp>
            <p:nvSpPr>
              <p:cNvPr id="89" name=""/>
              <p:cNvSpPr/>
              <p:nvPr/>
            </p:nvSpPr>
            <p:spPr>
              <a:xfrm>
                <a:off x="838080" y="5029200"/>
                <a:ext cx="358092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38080" y="5029200"/>
                <a:ext cx="3580920" cy="57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400" spc="-1" strike="noStrike">
                    <a:solidFill>
                      <a:srgbClr val="000000"/>
                    </a:solidFill>
                    <a:latin typeface="Times New Roman"/>
                  </a:rPr>
                  <a:t>King Fahd bin Abdul Aziz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LITARY DICTATOR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er is in control of armed fo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ilitary ensures that the laws, courts and police carry out the will of the lead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has an appearance of a parliamentary type of government, but citizens have no say in govern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s include Columbia, Myanmar, former Afghanistan, Chile and Iraq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09480" y="2666880"/>
            <a:ext cx="381024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INOCHE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uler of Chile(1973-1990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819520" y="1905120"/>
            <a:ext cx="3297240" cy="42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ugusto Pinoch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me president of the Council of Ch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junta of military offic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unt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mall ruling group immediately after a cou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osed harsh military r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30,000 people arrested/tortured/kidnapp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laimed President of Chile in 197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ee market policies at first reduced inflation and created short lived economic boo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982 Chile fell into an economic collapse and lost popular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990 resigned presidency but remained Commander in Chief of the Arm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ATIONALIST ONE PARTY STAT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AUTHORITARIA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known as a Fascist govern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 a single mass party under one lead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emely nationalistic, racist, imperialistic and militaristi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appears in advanced and industrial countr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no concrete theory to justifying its posi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zi Germany and Fascist Italy are common examp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85800" y="261000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DEOLOGICAL ONE PARTY STAT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TOTALITARIA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known as a Communist St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small political group holds pow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vernment policy is based on a an ideology. (equality of al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appears in underdeveloped or backwards countries that wish to industrializ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former Soviet Union and China are exampl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85800" y="2611440"/>
            <a:ext cx="380988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990720" y="685800"/>
            <a:ext cx="7086600" cy="556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TOTALITARIAN</a:t>
            </a:r>
            <a:endParaRPr b="0" lang="en-US" sz="24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FASCISM</a:t>
            </a:r>
            <a:endParaRPr b="0" lang="en-US" sz="24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IN</a:t>
            </a:r>
            <a:endParaRPr b="0" lang="en-US" sz="24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ITALY</a:t>
            </a:r>
            <a:endParaRPr b="0" lang="en-US" sz="24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95680" y="0"/>
            <a:ext cx="46483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AUTHORITAR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ystem of government in which the leaders take political power and author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people submit to this author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uthoritarian governments argue that the security and economic interest of people are less important than those of the govern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44658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560" y="3504960"/>
            <a:ext cx="40338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DEMOCR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ule by peo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form of government characterized by majority ru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,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citizen participation, accountability, minority righ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and acceptance of opposit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 of P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litical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talians Emerged As Victors After WWI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Why Fascis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95280" y="0"/>
            <a:ext cx="668988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371600" y="2438280"/>
            <a:ext cx="6553080" cy="19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ed along economic l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th : r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th: po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04920" y="87480"/>
            <a:ext cx="8381880" cy="67705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09480" y="1600200"/>
            <a:ext cx="8229600" cy="22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ustration &amp; Humiliation over los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 in North Af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re for imperialist superiority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tte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5952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105520" y="1066680"/>
            <a:ext cx="403848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conomically &amp;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ychologically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ined by th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st of the w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$15 billion sp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00,000 l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914400" y="6248520"/>
            <a:ext cx="7315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5484960"/>
            <a:ext cx="9144000" cy="137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ntment from not acquiring land promised to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m for fighting on the side of the allies. (blame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mier Orland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0" y="2209680"/>
            <a:ext cx="601992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Domestic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k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unemploy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adequate food supp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cal in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5638680" cy="56386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800600" y="1676520"/>
            <a:ext cx="41148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Fear of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ITO MUSSOLIN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IL DUC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d from 1922 –194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lt that democracy did not have the strength to survive in a violent wor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endure and conquer, required directed activity and disciplined effo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believed men were at their best while engaged in w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4038840" cy="32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1640" y="9903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solini is the father of Fascis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le in power he systematically reduced the functions of govern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 used force and violence as a means to maintain pow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s policies glorified the nation and its lead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s skills as a public speaker and his ability to touch the heart of his fellow countrymen gave many a sense of self-worth and purpo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2474640" cy="41148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066680" y="54100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Fas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ito Mussolin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4292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rn July 29, 188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lieved he was a young Julius Ceasar and a young Hitler idolized hi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ther was a socialist and instilled strong socialist beliefs in Beni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s sent to a catholic boarding schoo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s a bu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elled for stabbing a stud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901 received his elementary teaching certifica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054080" y="1981080"/>
            <a:ext cx="3076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 AUTHORITARIAN SYS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public decisions are made by the ruling elite regardless of public opin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ights and freedoms of individuals or groups within society are not respec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ndividual serves the govern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is no room for freedom of speech or assembly. (seen as a thre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is no political competi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ito Mussolin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4292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02 left for Switzerland but was soon arrested for agitation and depor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or union involvement (rad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09 married daughter of his father’s mist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d 5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iled in 1911 for his opposition to Italy’s war in Liby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12 became editor of “Avanti” socialist newspaper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85800" y="2719440"/>
            <a:ext cx="38149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ito Mussolin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4292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w WWI as a capitalist confli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ter changed mind and advocated entrance on the allied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result fired from “Avanti” and created his own newspap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16 he was drafted into army and by 1917 was wounded in battle and discharg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85800" y="2398680"/>
            <a:ext cx="3814920" cy="32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ito Mussolini (II DUC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48320" y="1752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19 formed his own political party (fascis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n as alternate to “Red Menace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of 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lackshir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quadistr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 to intimidate and gain supp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asted he was the 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man alive that can bring back the glory days of the Roman Empir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5800" y="2397240"/>
            <a:ext cx="374184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I DU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4292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October 28, 1922 Mussolini led his Fascis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rch on Ro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solini was immediately invited to form the Italian Government by King Victor Emmanuel II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fter the violence of the 1924 elections resulting in the death of Socialist party deputy Giacomo Mattoetti. Mussolini moved to suspend constitutional government and establish a totalitarian reg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 proceeded in stages to establish a dictatorship by forbidding the parliament to initiate legislation, making him responsible to the king alo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34495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I DU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4292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29 created the Lateran Treaties with the Pop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solini recognized Roman Catholic Church as church of Ita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pe recognized Mussolini as lea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8600" y="1758960"/>
            <a:ext cx="441972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I DU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4292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35 invaded Ethiop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drew from League of Na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36 signed the Rome-Berlin ax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39 sign the Pact of St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43 Mussolini was overthrown by Allies placed in pris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t. 1943 Germany invad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2514600"/>
            <a:ext cx="4343400" cy="26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362320" y="0"/>
            <a:ext cx="433368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0" y="3352680"/>
            <a:ext cx="228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deo: 2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entury: Mussolini and Fascists take over Italy 19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17457" t="37453" r="26133" b="46864"/>
          <a:stretch/>
        </p:blipFill>
        <p:spPr>
          <a:xfrm>
            <a:off x="1523880" y="1066680"/>
            <a:ext cx="6019920" cy="2314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rcRect l="17357" t="54707" r="58778" b="31178"/>
          <a:stretch/>
        </p:blipFill>
        <p:spPr>
          <a:xfrm>
            <a:off x="1676520" y="3733920"/>
            <a:ext cx="2743200" cy="2244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219320" y="83808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Boink LET"/>
              </a:rPr>
              <a:t>IN A DEMOC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371600" y="33526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Boink LET"/>
              </a:rPr>
              <a:t>IN A dictato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Impact"/>
              </a:rPr>
              <a:t>CHARACTERISTICS OF</a:t>
            </a:r>
            <a:br>
              <a:rPr sz="4400"/>
            </a:br>
            <a:r>
              <a:rPr b="1" lang="en-US" sz="4400" spc="-1" strike="noStrike" u="sng">
                <a:solidFill>
                  <a:srgbClr val="000000"/>
                </a:solidFill>
                <a:uFillTx/>
                <a:latin typeface="Impact"/>
              </a:rPr>
              <a:t>DICTATOR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429000" y="2286000"/>
            <a:ext cx="2409840" cy="3276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248520" y="2286000"/>
            <a:ext cx="2425680" cy="3276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457200" y="2286000"/>
            <a:ext cx="25639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AGA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forms of media are controlled by the govern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ws of the outside world and news of national concern i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ensor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ltered, and presented in a manner that best serves the govern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aganda is one-sided , heavily biased inform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127160" y="1981080"/>
            <a:ext cx="2925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OCTR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ually aimed at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ou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a n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use of distorte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signed to strengthen support of the govern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ools serve the interests of the st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ccess is not measured in creativity, but rather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formi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001880" y="1981080"/>
            <a:ext cx="3176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SCAPEGOA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6248160" cy="37339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5333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ecting grievances/problems towards other group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aming others for your countries proble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CE AND TERR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rror and violence are effective ways to subdue and maintain control over a popul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ret police are often given the power to imprison, torture or liquidate those that are seen as being disloyal or a threa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isappearance of these people serve to intimidate any potential opposi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57240" y="1981080"/>
            <a:ext cx="3267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30T21:16:39Z</dcterms:created>
  <dc:creator>Ceara Ormond</dc:creator>
  <dc:description/>
  <dc:language>en-US</dc:language>
  <cp:lastModifiedBy>ripkensa</cp:lastModifiedBy>
  <dcterms:modified xsi:type="dcterms:W3CDTF">2009-03-05T23:42:37Z</dcterms:modified>
  <cp:revision>4</cp:revision>
  <dc:subject/>
  <dc:title>PowerPoint Presentation</dc:title>
</cp:coreProperties>
</file>